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CD1F-21C6-4E55-BF93-7005AD6CB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5C32-5B39-45F3-B440-DDEFE29E3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9C6-4327-4443-912A-EF541679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1FA-E3CD-4073-9ABD-28C31343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0A2-B5BB-48BB-8886-29F61B3C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627-6BAB-41FE-8B98-C8B0D76A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DC3C-9281-4224-ACBD-00805133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1F7A-BBD2-414B-82C3-42F5DB5F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BFA5-369E-4869-91F8-F5EFDDB3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B405-DBC3-4C91-9522-FF1304CC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1F30-9C01-4555-B1A2-7F302A96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D6CB-F3FE-4F2D-86D4-90322A7B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73AD-7EB4-432D-B5AA-5EB2F141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5CE-7482-4734-8A2E-0287CDB4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B8E4-DF0E-4A34-B0D9-3D5FAB10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7734-7B38-4A1B-9C34-261B0EAC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F6B3-2475-4B1A-B129-98758853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B803-C62E-41D3-9F3A-6B26191D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80F6-90AD-42CD-8D35-17299D6E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B5E-1B0C-4401-BF13-FDF03395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8B4-D5FC-4E38-8E7A-B2C443F4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9AC-9519-4475-99A2-58793014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BD5-5D9F-40A2-B911-0CC942E8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8C3-52C6-426F-A102-E90B113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9DA-12BB-4853-9F92-426E0CC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DF8-FE10-406F-8396-91354A7A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989D-BA77-4CFF-8EEA-8E6BE0694C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BEC6-665E-40DB-AAD5-A56335517F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ФИЗИЧЕСКОЙ КУЛЬТУРЫ И СПОРТА КРАСНОДАРСКОГО КРАЯ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КРАСНОДАРСКОГО КРАЯ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ГБУ КК «ЦЕНТР РАЗВИТИЯ ЛЕГКОЙ АТЛЕТИКИ»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바탕"/>
              </a:rPr>
              <a:t>Второй этап VII летней Спартакиады учащихся России  2015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바탕"/>
              </a:rPr>
              <a:t>легкая атлетика (ЮФО, С-КФ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3-04.07.2015 г.                                                   г. Красно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Второй этап VII летней Спартакиады учащихся России  2015 года </a:t>
            </a: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легкая атлетика (ЮФО, С-КФО)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03-04.07.2015 г.                                                                                 г. Краснодар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1773360"/>
          <a:ext cx="8064360" cy="4189320"/>
        </p:xfrm>
        <a:graphic>
          <a:graphicData uri="http://schemas.openxmlformats.org/drawingml/2006/table">
            <a:tbl>
              <a:tblPr/>
              <a:tblGrid>
                <a:gridCol w="2439720"/>
                <a:gridCol w="2352960"/>
                <a:gridCol w="1141200"/>
                <a:gridCol w="2130480"/>
              </a:tblGrid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ия Максим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лина Шемяк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Коломи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дим 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горизонт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онид Воло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вертик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Аксе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ое обеспеч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дмила Кузнец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лёгкая атлетика Федерация</cp:lastModifiedBy>
  <cp:lastPrinted>2015-07-06T08:20:31Z</cp:lastPrinted>
  <dcterms:modified xsi:type="dcterms:W3CDTF">2015-07-06T08:20:35Z</dcterms:modified>
  <cp:revision>47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